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3FCB-DD23-4BCE-93FB-9C2780951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F674-AFB2-44F5-9B6A-BF7A72A39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DCA3-DF31-48D6-AC26-376A777C2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6D07-02C6-444C-99EA-AEA790A88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83A6-EE3D-4274-A5D2-CE0F921B1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D109-ED9E-45F9-8AA9-1FECD7684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F366-A11D-4186-BB38-5FBA6BAC9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C6AE-CAFD-4163-9BD2-CC2F1B2E9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5718-3F1E-4C48-A7AD-A2BCE4E39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25753-A9AB-471C-A0FF-406BC8C01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6A2EC-63E5-4281-9A66-58A43ECB7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1778-50D2-443B-AD58-1BDF8BFC7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2DD14E-4BCB-4BBF-9E66-027C6C9EC8BB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zus.gov.rs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11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2565360"/>
            <a:ext cx="82296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ЛИДНОСТ, КЛИНИЧКИ ЗНАЧАЈ И ПРИМЕНЉИВОСТ СМЕРНИЦА (ВОДИЧА)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ДОБРЕ ПРАКСЕ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препоруке у смерницама валид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ве могућности при одлучивању и сви могући исходи узети у обзи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докази за сваку одлуку идентификова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валидирани и комбиновани на разуман и јасан начи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је оцена пацијената за последице појединих одлу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укључујући доброби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ризике и трошков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узета у обзи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у смернице отпорне на клинички могуће варијације у пракс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у валидне смернице клинички корис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значајн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смернице дају могућност за значајно побољшање квалитета прак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постоје велике варијације у постојећој пракс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смернице садрже нове доказе који би могли имати важан утицај на поступање са пацијенто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Да ли ће смернице утицати на поступак са врло великим бројем пацијен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ли са тешким пацијенти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или са пацијентима чије лечење је веома скуп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тако да мале промене у пракси имају велики утицај на исход третмана или његову цен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се смернице могу применити у нашој пракс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акве препреке постоје за примену смерни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е могу превазић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ће наше колеге сарађив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постоје образов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дминистратив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и економски услови потребни за примену смерниц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је смернице издало тело са стручним ауторитетом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је неко од угледних колега већ применио смерни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су информације из свих извора конзистентн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постоји могућност индивидуалних дискусија о примени смерница са здравственим власти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је формат смерница погодан за употреб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се смернице могу применити у циљној групи клиничар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без потребе за посебном сарадњом спољ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а ли не постоји сукоб са политиком здравственог фонд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а политиком здравствених власт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са очекивањима пацијента и са очекивањима заједниц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Националне смернице у Србиј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ступне су на веб страници Агенције за акредитацију здравствених устано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azus.gov.r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ckett, David L. et al.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idence-Based Medicine: How to Practice and Teach EBM. 2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ed. New York: Churchill Livingstone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raus SE, Richardson WS, Glasziou P, Haynes RB. Evidence-based Medicine. 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edition, Elsevier, 200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4:21:19Z</dcterms:modified>
  <cp:revision>56</cp:revision>
  <dc:subject/>
  <dc:title>Slide 1</dc:title>
</cp:coreProperties>
</file>